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5490-E63B-4692-AF9B-39E361C9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79F8-534F-4F2F-AB4C-8BC15297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35C6-C3C2-40C8-BE3B-AA118A273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DB24-71CD-4233-8FAF-BA46020B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8004-F3FB-4C09-99C8-1BCEF8C5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F59A-C273-41AB-9F95-B7019222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BDA8-277A-412F-AEBF-6BDF15BE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DECA-A821-4C55-91F7-1C45F2EF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5FA0-CBC1-4631-BFF2-D18B7612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C2D8-5EEC-480D-AEB8-B767F9E5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B84C-E679-47E2-BAAA-9ABE29D7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CED-633D-44C6-94C7-173F1016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eba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71C7-20AA-4BAB-A178-01AC40261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otmath.com/hotmath_help/games/kp/kp_hotmath_sound.swf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eba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Horizontal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al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ph horizontal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eba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a horizontal line y =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quation does not have an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y coordinate is always 2 (regardless of what we put in fo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eba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s try on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ts make 3 or 4 values for 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-3, 0, 1,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990720" y="3581280"/>
          <a:ext cx="1523880" cy="258768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3656160" y="5794200"/>
            <a:ext cx="5182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2860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3886200"/>
            <a:ext cx="4190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3811680"/>
            <a:ext cx="155520" cy="15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3809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3809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600" y="3809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1520" y="34290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3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48680" y="3922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86760" y="3313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63280" y="3313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eba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62120" y="2514600"/>
          <a:ext cx="1523880" cy="25146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048120" y="63244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867280" y="144756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eba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rite an equation for the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57150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343400" y="25142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38862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8098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3809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3809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6400" y="3276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4,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3080" y="3276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1,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15160" y="3313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,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732640" y="4873680"/>
            <a:ext cx="9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eba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try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an equation for th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571500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343400" y="251424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4495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71800" y="4419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4419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44197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6400" y="40384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3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07120" y="40384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-1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64520" y="4038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03800" y="495000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feba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s see you t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3352680"/>
            <a:ext cx="1827360" cy="9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1:27:30Z</dcterms:created>
  <dc:creator>CABELL BOE</dc:creator>
  <dc:description/>
  <dc:language>en-US</dc:language>
  <cp:lastModifiedBy>JRatliff</cp:lastModifiedBy>
  <dcterms:modified xsi:type="dcterms:W3CDTF">2008-10-24T15:36:17Z</dcterms:modified>
  <cp:revision>4</cp:revision>
  <dc:subject/>
  <dc:title>Graph Horizontal and Vertical Lines</dc:title>
</cp:coreProperties>
</file>